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C327-89FC-411C-900B-14D26495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CF47-0102-469C-B880-23B07BD5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E4E2-C83E-4364-85C8-F7300BE7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D25D-536C-4C40-B9E8-DEF69485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3114-A113-4944-AA5D-F0E29416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162-F302-4210-86EB-00D72B4A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CA0-8A54-400A-9BA8-D712D110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ED2-E761-40CB-B71B-29A1B24F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427-B350-46D7-B60F-3F79F0A9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E258-989D-4535-8A0E-BE243321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0D9-8A9E-4659-BE14-6BCECBE9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D85-FAE9-4945-804D-3AAC2259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0D20-FB96-49F9-9C02-A328B7755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hangingminds.org/explanations/sift/sense.htm" TargetMode="External"/><Relationship Id="rId2" Type="http://schemas.openxmlformats.org/officeDocument/2006/relationships/hyperlink" Target="http://ezinearticles.com/?Write-Better---Brain-Activity-and-the-Five-Senses&amp;id=4005868" TargetMode="External"/><Relationship Id="rId3" Type="http://schemas.openxmlformats.org/officeDocument/2006/relationships/hyperlink" Target="http://www.factmonster.com/ipka/A0932466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sible Miracle: Background Information on Being Blind Effecting Other Sen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 Bethany Anderson and Sierra E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Your Brain Functions With Your Sens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ut most of our focus on what we see, so it dominates the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our senses would go vision, hearing, then touch, taste, and smell are significant in specific circumstances, so they are pretty much tied for l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ream of input into our brains is guided by our at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ttention turns our head, moves our bodies, as well as being able to create narrow, or broad foc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ight Dominates Other Sens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ht is our usual primary sense because we get most of our useful information from s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more to concentrate on sight than other senses because of the spectrum and intensity, this is why our brain focuses mainly works with s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ht helps us to gain most of our knowledge, and the brains functions with that more because of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Dominate Senses Chang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dominate sense of sight changes when you lose your vision and become bl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times when your eating, you sense of smell and taste become your dominate se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become blind you sense of feel, and hearing become very k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ring is important for blind people because it’s one way they can tell where they are, and what’s going on around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s That Work With These Sens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sense- You should know what organs cooperate with your 5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eyes give you sight; be careful with your eyes because that is your main sense, and it’s easy to become bl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nose gives you your sense of sm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hands, feet, and entire body allow you to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tongue, and taste buds allow you to taste hence their name taste b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ears allow you to hear… Told you common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e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hangingminds.org/explanations/sift/sense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zinearticles.com/?Write-Better---Brain-Activity-and-the-Five-Senses&amp;id=40058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actmonster.com/ipka/A0932466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6:25:34Z</dcterms:created>
  <dc:creator>USD376</dc:creator>
  <dc:description/>
  <dc:language>en-US</dc:language>
  <cp:lastModifiedBy>USD376</cp:lastModifiedBy>
  <dcterms:modified xsi:type="dcterms:W3CDTF">2012-05-22T16:14:29Z</dcterms:modified>
  <cp:revision>6</cp:revision>
  <dc:subject/>
  <dc:title>Sensible Miracle: Background Information on Being Blind Effecting Other Senses</dc:title>
</cp:coreProperties>
</file>